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E9E-D6C9-4944-8896-A398A7EF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DBA-F982-4607-B56D-CA92291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AA4-0BA2-43E2-AD24-F0C3AA21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467-2763-403C-884B-1B0DC754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C7C3-24B6-4C2A-983C-A93BFCA7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4BDB-D3E1-4BC3-9FB0-6E0F943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007C-B733-4A6D-95BC-3D23DABE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50C-6F0A-4B68-9E18-C141D33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90E-6FA9-48EA-852B-1B5ECA79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A0FB-557B-47C8-8B4B-1C006D2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8054-42CD-408C-91EE-D01A305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04F-5586-49C1-9D1D-FAF9EC5D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293D-EBF1-4E0C-9225-1BCF252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6E34-3C38-4F1D-96A9-17D6DEA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5C4-94BA-4367-9C15-9CA7312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B99F-6E79-43D6-BA12-733DC7C2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6C7-A2C9-4E7F-8F3F-16E44B93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5C2-E6B1-4F7F-B244-6C476D0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76E-70BD-4967-8700-B1E9551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46B-9AA2-49B4-872F-4C52C77A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CE9-9AD7-4228-80AB-2DE0DD13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EF1-9767-4012-ABF2-197E7C8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2F9-EC24-46E0-945B-D95C09D7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074-A327-4FDD-8917-392A5CC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5752-FFB0-4B31-9E4B-DDA0B0D86A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022-CCFC-43B2-BEEC-E33E760E42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Pranee@amlo.go.th" TargetMode="External"/><Relationship Id="rId3" Type="http://schemas.openxmlformats.org/officeDocument/2006/relationships/hyperlink" Target="mailto:snat@amlo.go.th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b9efee"/>
                </a:solidFill>
                <a:latin typeface="Angsana New"/>
              </a:rPr>
              <a:t>รายงานความคืบหน้า</a:t>
            </a:r>
            <a:br>
              <a:rPr sz="6000"/>
            </a:br>
            <a:r>
              <a:rPr b="1" lang="th-TH" sz="6000" spc="-1" strike="noStrike">
                <a:solidFill>
                  <a:srgbClr val="b9efee"/>
                </a:solidFill>
                <a:latin typeface="Angsana New"/>
              </a:rPr>
              <a:t>การเตรียมความพร้อมเข้าร่วมโครงการ </a:t>
            </a:r>
            <a:r>
              <a:rPr b="1" lang="en-US" sz="6000" spc="-1" strike="noStrike">
                <a:solidFill>
                  <a:srgbClr val="b9efee"/>
                </a:solidFill>
                <a:latin typeface="Angsana New"/>
              </a:rPr>
              <a:t>ROSC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คณะทำงานด้าน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AML/CFT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 &amp; Ans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ML/CFT Working Committ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retariat Office at AM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l: 0 2219 3600 ext 400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anee Kaoian Asst. Secre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ranee@amlo.go.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ehanat Prayoonrat, Secre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US" sz="2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snat@amlo.go.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การดำเนินงาน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/</a:t>
            </a: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การประชุมที่ผ่านม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มีการประชุมของคณะทำงานฯ และประชุมร่วมกับหน่วยงานที่เกี่ยวข้องกล่าวคื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คณะทำงานด้าน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L/C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หน่วยงานภาครัฐที่ทำหน้าที่กำกับดูแลสถาบันการเงิน และอื่น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Garamond"/>
              </a:rPr>
              <a:t>สมาคมของหน่วยธุรกิจต่าง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TF Members, Donors Commu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Monetary Fund (IMF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ia Pacific Group on Money Laundering (AP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 u="sng">
                <a:solidFill>
                  <a:srgbClr val="b9efee"/>
                </a:solidFill>
                <a:uFillTx/>
                <a:latin typeface="Angsana New"/>
              </a:rPr>
              <a:t>การปรับปรุงการดำเนินการด้าน </a:t>
            </a:r>
            <a:r>
              <a:rPr b="0" lang="en-US" sz="6000" spc="-1" strike="noStrike" u="sng">
                <a:solidFill>
                  <a:srgbClr val="b9efee"/>
                </a:solidFill>
                <a:uFillTx/>
                <a:latin typeface="Angsana New"/>
              </a:rPr>
              <a:t>AML/CFT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41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แบ่งเป็น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4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ด้าน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ด้านการพัฒนากฎหมายและระเบีย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ด้านการบังคับใช้กฎหมาย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ด้านสถาบันการเงิ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ด้านการเผยแพร่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ร้างความเข้าใจ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ด้านการพัฒนากฎหมายและระเบียบ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160128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ารลงนาม การเข้าเป็นภาคีในอนุสัญญา ข้อตกลงระหว่างประเทศต่างๆ  และการปฏิบัติตามพันธกรณีที่เกี่ยวข้อ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254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ก้ไขเพิ่มเติมประมวลกฎหมายอาญามาตร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35/1-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5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ละ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้องกันและปราบปรามการฟอกเงิน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4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าตรา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 (8)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พิ่มความผิดฐานก่อการร้าย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สนอแก้ไขเพิ่มเติม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้องกันและปราบปรามการฟอกเงิน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254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สนอแก้ไขเพิ่มเติมกฎหมาย กฎกระทรวงที่เกี่ยวข้อง เช่น  กฎกระทรวงตามความใน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บคุมการแลกเปลี่ยนเงิน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ด้านการพัฒนากฎหมายและระเบียบ</a:t>
            </a:r>
            <a:r>
              <a:rPr b="0" lang="en-US" sz="6000" spc="-1" strike="noStrike" u="sng">
                <a:solidFill>
                  <a:srgbClr val="b9efee"/>
                </a:solidFill>
                <a:uFillTx/>
                <a:latin typeface="Angsana New"/>
              </a:rPr>
              <a:t>(</a:t>
            </a: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ต่อ</a:t>
            </a:r>
            <a:r>
              <a:rPr b="0" lang="en-US" sz="6000" spc="-1" strike="noStrike" u="sng">
                <a:solidFill>
                  <a:srgbClr val="b9efee"/>
                </a:solidFill>
                <a:uFillTx/>
                <a:latin typeface="Angsana New"/>
              </a:rPr>
              <a:t>)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รม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พิจารณาแผนพัฒนากฎหมายของสำนักงาน ปปง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นักงานอัยการสูงสุดอยู่ระหว่างแก้ไข พ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่งผู้ร้ายข้ามแดน พ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2472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พื่อบัญญัติเรื่องการส่งผู้ร้ายข้ามแดนโดยวิธีการแบบย่อ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ด้านการบังคับใช้กฎหมาย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มีการก่อตั้งสำนักงานป้องกันและปราบปรามการฟอกเงิน และศูนย์ข้อมูลข่าวกรองทางการเงิน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inancial Intelligence Unit; FIU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มีระบบงานสารสนเทศรองรับรายงานการทำธุรกรรมทางการเงินจากสถาบันการเงินเป็นสากล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มีการฝึกอบรมให้แก่เจ้าหน้าที่ของรัฐ และหน่วยงานต่างๆ ทั้งภาครัฐ และภาคเอกช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ด้านสถาบันการเงิน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55700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-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มีการพัฒนาหลักเกณฑ์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Know Your Customer (KYC)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/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Customer Due Diligence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CDD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พื่อเป็นมาตรฐานการปฏิบัติขั้นต่ำของสถาบันการเงิ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ระทรวงการคลัง และ ธนาคารแห่งประเทศไทยออกระเบียบควบคุมผู้แทนรับโอนเงินและการแลกเปลี่ยนเงินตรามีผลตั้งแต่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11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254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หน่วยงานที่เกี่ยวข้องออกหลักเกณฑ์รองรั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ด้านการเผยแพร่</a:t>
            </a:r>
            <a:r>
              <a:rPr b="0" lang="en-US" sz="6000" spc="-1" strike="noStrike" u="sng">
                <a:solidFill>
                  <a:srgbClr val="b9efee"/>
                </a:solidFill>
                <a:uFillTx/>
                <a:latin typeface="Angsana New"/>
              </a:rPr>
              <a:t>/ </a:t>
            </a:r>
            <a:r>
              <a:rPr b="0" lang="hi-IN" sz="6000" spc="-1" strike="noStrike" u="sng">
                <a:solidFill>
                  <a:srgbClr val="b9efee"/>
                </a:solidFill>
                <a:uFillTx/>
                <a:latin typeface="Angsana New"/>
              </a:rPr>
              <a:t>สร้างความเข้าใจ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74600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ffffff"/>
                </a:solidFill>
                <a:uFillTx/>
                <a:latin typeface="Angsana New"/>
              </a:rPr>
              <a:t>เกี่ยวกับการฟอกเงิน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ngsana New"/>
              </a:rPr>
              <a:t>(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ngsana New"/>
              </a:rPr>
              <a:t>ระยะปี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ngsana New"/>
              </a:rPr>
              <a:t>2544-2548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นักงาน ปปง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จัดการอบรม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ัมมน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หรับส่วนราชการที่เกี่ยวข้อง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14,673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หรับประชาชนทั่วไป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15,547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หรับสถาบันการเงิน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2,355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หรับพนักงานเจ้าหน้าที่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2,720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การดำเนินงานขั้นต่อไป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F AML/CFT Assessment Re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B TA Re: AML/CFT International Cooperation (3 years action pla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f-Assessment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ose to Donor Community for TA at     APG Annual Meeting on July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 Implement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1:56:32Z</dcterms:created>
  <dc:creator>admin-ekaman</dc:creator>
  <dc:description/>
  <dc:language>en-US</dc:language>
  <cp:lastModifiedBy>x</cp:lastModifiedBy>
  <dcterms:modified xsi:type="dcterms:W3CDTF">2006-10-15T15:36:14Z</dcterms:modified>
  <cp:revision>27</cp:revision>
  <dc:subject/>
  <dc:title>รายงานความคืบหน้า การดำเนินการ</dc:title>
</cp:coreProperties>
</file>